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0E7-8680-4FD4-93F5-BBD75397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444-DAAB-463C-974F-81D707A0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B7A-7309-4719-9081-0EB198A4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C94-2541-4FFC-BA68-04DD15FA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1F38-687A-4BA8-8CD5-24520C2A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B62A-FB3A-4AFD-9AE3-4E71D1C4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EC1E-1098-4A4C-BB97-19990CC5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06D8-8D7C-4F7A-8E56-D085A225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D16B-FFE9-45B3-9AAC-2C4C0C34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ADA5-4A17-4E67-8078-4D35FFB4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E3F3-7872-46DC-8987-0E6777A2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C63-8EA8-4660-90EE-47DE4B47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B4B4-815C-4F50-8C62-E358ABCF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5BD3-45E1-43D2-86EB-BED0CD7F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DA40-F697-4949-91A5-A6742E7E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EE6E-DF85-4B5F-9F49-376B9A04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A39B-EB24-4F79-B944-B1890EDD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7CF-8DF0-4735-AB03-42AE1076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020-F1B2-402C-9F0E-7DE26B24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846-22C1-4520-9066-60AB9501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D27-58A1-43F6-923F-9296F99A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CE5-8DFB-4E22-965D-2CF2214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0FF-3565-4716-A64B-142C588A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6DB-A657-433A-B0C8-AD17C0F4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9095-63A3-480E-A12A-61F73362C15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m 6" descr="tela02.jpg"/>
          <p:cNvPicPr/>
          <p:nvPr/>
        </p:nvPicPr>
        <p:blipFill>
          <a:blip r:embed="rId2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5AED-5917-4F7C-B0DC-1AEB15B6FAD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84" name="Espaço Reservado para Conteúdo 3" descr="tela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Demandas Setor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f497d"/>
                </a:solidFill>
                <a:latin typeface="Calibri"/>
              </a:rPr>
              <a:t>Análise segmenta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f497d"/>
                </a:solidFill>
                <a:latin typeface="Calibri"/>
              </a:rPr>
              <a:t>Estudo detalhado dos diversos setores do comércio, varejo e serviços, visando à implantação de políticas horizontais com um programa de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f497d"/>
                </a:solidFill>
                <a:latin typeface="Calibri"/>
              </a:rPr>
              <a:t>Treinamento e qualificaç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f497d"/>
                </a:solidFill>
                <a:latin typeface="Calibri"/>
              </a:rPr>
              <a:t>Preparar um amplo programa de treinamento e qualificação de trabalhadores, complementar aos programas já existentes do Sesc e Sena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Demandas Setor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Estímulo a investi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Programa de apoio às empresas que tenham projetos de crescimento seja de forma orgânica ou por meio de fusão e integração de empre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 DE DESENVOLVIMENTO DO COMÉRCIO E SERVIÇ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ressupo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Visão de Longo Pr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É urgente que o setor se articule com o Governo para planejar seu crescimento para os próximos 5, 10, e 15 anos, preparando as políticas que possam dar sustentação a esta visão de longo praz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Integração da cadeia produ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Nada será alcançado de forma sustentável sem uma efetiva integração dos agentes da cadeia produtiva, tendo-se em mente que é o varejo que está em contato direto com o consumidor fin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ressupo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Diminuição da Informalid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A concorrência desleal é um dos principais problemas enfrentados por todos os segmentos, transformando empresas que respeitam a lei em vitimas da falta de étic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Sustentabilidade e Governan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Calibri"/>
              </a:rPr>
              <a:t>A Governança é hoje um dos principais pilares das empresas que se preocupam com a solidez de seus negóc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Calibri"/>
              </a:rPr>
              <a:t>Devemos estar também atentos às questões de sustentabilidade ambiental e consumo responsáv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Calibri"/>
              </a:rPr>
              <a:t>Precisamos criar mecanismos de incentivo visando introduzir estas práticas em todas as empresa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Tributá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Redução da car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Simplificação do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Redução unificada e nacional da tributação nos produtos da cesta bá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Trabalh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Criação de um "Simples Trabalhista", com ênfase na desoneração da folha de pagame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Estabelecimento de regras especiais de remuneração e jornada de trabalho para o comércio, dadas as especificidades do se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Internacionalização e Export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Ampliação e fortalecimento de canais de distribuição internaciona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Maior apoio da Apex no incentivo à internacionalização das empresas de varej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Fortalecimento do comércio interno, sem protecionism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Desenvolver um projeto de estímulo a marc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Apoio às pequenas e médias empre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Criar mecanismos de incentivo e simplificação ao pequeno comér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Desenvolver um programa de incentivo ao desenvolvimento de franqu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Atuar pela desburocratização das obrigações fiscais e trabalh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Financi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Apoio do BNDES ao comércio com ampliação de linhas de financia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Criação de mecanismos facilitados de concessão de crédito pelo sistema financei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1f497d"/>
                </a:solidFill>
                <a:latin typeface="Calibri"/>
              </a:rPr>
              <a:t>Polí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1f497d"/>
                </a:solidFill>
                <a:latin typeface="Calibri"/>
              </a:rPr>
              <a:t>Inovação Tecnológica e Logís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Programa de apoio à inovação e desenvolvimento tecnológico das empre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f497d"/>
                </a:solidFill>
                <a:latin typeface="Calibri"/>
              </a:rPr>
              <a:t>Desenvolvimento de um programa de integração logística entre a cadeia produtiva e os segmentos de comércio e serviç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9:35:54Z</dcterms:created>
  <dc:creator>fabiola.xavier</dc:creator>
  <dc:description/>
  <dc:language>en-US</dc:language>
  <cp:lastModifiedBy>fabiola.xavier</cp:lastModifiedBy>
  <dcterms:modified xsi:type="dcterms:W3CDTF">2008-10-10T19:45:58Z</dcterms:modified>
  <cp:revision>14</cp:revision>
  <dc:subject/>
  <dc:title>Slide 1</dc:title>
</cp:coreProperties>
</file>